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712-3DC0-4F93-AF75-A0D67DBF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BD6-E967-4DA4-A250-2F04196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670-A76D-4926-932B-99EA08D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139-002C-40E0-B557-4D785F25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127-71B1-4CEE-804A-66384ED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D98-C282-4C3D-868E-1549C5C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5BA-1CC8-4256-91A9-1607542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025-2140-455E-A143-F3EF48CC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BFA-4A40-40C9-9826-04D0AE6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67B-DF9C-407F-B374-DD824AA5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AA0-3A56-42B4-828D-48D4486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048-1E5C-40F0-AB9D-7B04F06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523-0991-4916-BE46-AEBC9E49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indezine.com/" TargetMode="External"/><Relationship Id="rId4" Type="http://schemas.openxmlformats.org/officeDocument/2006/relationships/hyperlink" Target="http://www.powerpointed.com/" TargetMode="External"/><Relationship Id="rId5" Type="http://schemas.openxmlformats.org/officeDocument/2006/relationships/hyperlink" Target="http://www.powerpointed.com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43200" y="2200320"/>
            <a:ext cx="3657600" cy="24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0800" y="612792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esentation Copyright Geetesh Baja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ndezi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owerpointe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igger animations demonstrated in this presentation will work only on PowerPoint 2000 or higher, or the free PowerPoint 2003 Viewer or hig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6:51:39Z</dcterms:created>
  <dc:creator>Geetesh Bajaj</dc:creator>
  <dc:description>More PowerPoint Info at: http://www.indezine.com and http://www.powerpointed.com</dc:description>
  <dc:language>en-US</dc:language>
  <cp:lastModifiedBy>Geetesh Bajaj</cp:lastModifiedBy>
  <dcterms:modified xsi:type="dcterms:W3CDTF">2003-12-15T17:26:06Z</dcterms:modified>
  <cp:revision>8</cp:revision>
  <dc:subject>Trigger Animation Demo</dc:subject>
  <dc:title>Trigger Animation Demo</dc:title>
</cp:coreProperties>
</file>