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319-232D-483B-BFE7-FCE385D3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C2A-6E6A-4E59-938A-9DC2A41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4C1-B3C2-4E48-996B-F23A6734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A38-1F77-4F7B-9A9C-615BFB06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8941-114B-484E-994F-EBCF6D22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4949-DFB7-4792-ABCC-382420E4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C78-4D41-41CF-9D3A-699E655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A497-5026-448B-8B3F-AD4B241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EC8-0A3A-4F0A-9658-A0A45E1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6AC6-318B-4BAE-87E9-0909FCB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D74-D2E2-479B-932A-98DB15B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D7A-2074-4B3A-BFED-5B9C71D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6656-1E3F-4AE0-97F7-DAD73A7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8AA5-A403-44EA-9A44-1BB00298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FD5-AD88-43D1-88CD-24016C9C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03F-8073-4F9D-A3F2-0ECA0385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B5B-9B2C-4C85-8136-51AD0EAC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CC6-0BEA-425B-BCDC-E6FF9647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19E-93B6-445B-A20B-199E55A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6F1-CA07-46CA-82F4-B45A7B3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649-C1B6-446F-A161-D2CA919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FF0-0EDA-4C4A-B48D-3F301E4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1C5-271F-40F3-984F-25D5C62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BFA-5456-409E-A9F4-DD6E07D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FF4-358D-4D1E-AA8B-EACFD3F74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A59-A3D9-444F-850B-060845D33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zine.com/bank/" TargetMode="External"/><Relationship Id="rId3" Type="http://schemas.openxmlformats.org/officeDocument/2006/relationships/hyperlink" Target="http://www.indezine.com/bank/" TargetMode="External"/><Relationship Id="rId4" Type="http://schemas.openxmlformats.org/officeDocument/2006/relationships/hyperlink" Target="http://www.indezine.com/bank/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6858000" cy="3657600"/>
          </a:xfrm>
          <a:prstGeom prst="rect">
            <a:avLst/>
          </a:prstGeom>
          <a:solidFill>
            <a:srgbClr val="28a3a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olor Images in PowerPoint 2003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Sample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467840" cy="3657600"/>
          </a:xfrm>
          <a:prstGeom prst="rect">
            <a:avLst/>
          </a:prstGeom>
          <a:solidFill>
            <a:srgbClr val="28a3a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pyright Geetesh Bajaj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All Rights Reserved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ownload this and more FREE presentations from:</a:t>
            </a:r>
            <a:br>
              <a:rPr sz="4000"/>
            </a:br>
            <a:r>
              <a:rPr b="0" lang="en-US" sz="4000" spc="-1" strike="noStrike" u="sng">
                <a:solidFill>
                  <a:srgbClr val="ba7c3e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4000" spc="-1" strike="noStrike" u="sng">
                <a:solidFill>
                  <a:srgbClr val="ba7c3e"/>
                </a:solidFill>
                <a:uFillTx/>
                <a:latin typeface="Tahoma"/>
                <a:hlinkClick r:id="rId3"/>
              </a:rPr>
              <a:t>www.indezine.com</a:t>
            </a:r>
            <a:r>
              <a:rPr b="0" lang="en-US" sz="4000" spc="-1" strike="noStrike" u="sng">
                <a:solidFill>
                  <a:srgbClr val="ba7c3e"/>
                </a:solidFill>
                <a:uFillTx/>
                <a:latin typeface="Tahoma"/>
                <a:hlinkClick r:id="rId4"/>
              </a:rPr>
              <a:t>/bank/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3:29:22Z</dcterms:created>
  <dc:creator>Geetesh Bajaj</dc:creator>
  <dc:description/>
  <dc:language>en-US</dc:language>
  <cp:lastModifiedBy>Geetesh Bajaj</cp:lastModifiedBy>
  <dcterms:modified xsi:type="dcterms:W3CDTF">2004-11-01T04:04:50Z</dcterms:modified>
  <cp:revision>6</cp:revision>
  <dc:subject/>
  <dc:title>Slide 1</dc:title>
</cp:coreProperties>
</file>