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2F8E-0253-421A-8E76-8A6E1B161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FF95-0AF6-446A-BA58-BA4EF870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ACA3-EDA2-40F2-8714-38D8DBB51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ED94-BC22-4164-9068-683FBA573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27FF-838C-4EB0-A146-57B753E5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23AE-CE54-4B0C-8A3C-37415E6F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4BB9-9CA3-44A7-8F64-7103C031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3054-5551-4435-B415-144E21C6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80B0-F7F8-4E79-91E8-A307B933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9224-B8CA-4576-B085-F0880F8A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8F82-BC12-4DB0-BBEB-7FB0AF0F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2B6B-33D6-4847-9D43-50809B00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1A57-882F-4623-BC4F-A62EBD20E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0440" y="2971800"/>
            <a:ext cx="4572000" cy="3429000"/>
          </a:xfrm>
          <a:prstGeom prst="rect">
            <a:avLst/>
          </a:prstGeom>
          <a:blipFill rotWithShape="0">
            <a:blip r:embed="rId1">
              <a:alphaModFix amt="3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ic Fill Effects in 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81360" cy="3438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81360" cy="3438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562640" y="3419640"/>
            <a:ext cx="4581360" cy="3438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58136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81360" cy="3438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81360" cy="3438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72000" y="3419640"/>
            <a:ext cx="4581360" cy="3438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0" y="3419640"/>
            <a:ext cx="458136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08:40:54Z</dcterms:created>
  <dc:creator>Geetesh Bajaj</dc:creator>
  <dc:description/>
  <dc:language>en-US</dc:language>
  <cp:lastModifiedBy>Geetesh Bajaj</cp:lastModifiedBy>
  <dcterms:modified xsi:type="dcterms:W3CDTF">2005-10-19T10:06:30Z</dcterms:modified>
  <cp:revision>7</cp:revision>
  <dc:subject/>
  <dc:title>Slide 1</dc:title>
</cp:coreProperties>
</file>