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5FD-0A49-41F0-8F54-E17A35F9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61084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78160" y="3073680"/>
            <a:ext cx="61084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57A-C65C-4612-BF1C-CF6892FA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78160" y="307368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08360" y="307368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1E2-B559-45BF-9B34-640BA499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3480" y="268452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0" y="268452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78160" y="307368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43480" y="307368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8800" y="307368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DAC-D5A4-419A-94FC-1E2AAD15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2DDD-831B-4577-9922-293A220E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78160" y="2684520"/>
            <a:ext cx="61084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AE4D-1F3F-4E96-936C-32346F1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61084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CCA0-D942-4209-8FF7-6C3D4DA5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3F55-682C-4BAD-A5E4-ADC32E18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F3D3-6D25-4CE2-A6A6-CE799FBC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92360" y="928440"/>
            <a:ext cx="74167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2124-BA15-41D2-B653-07CAE395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78160" y="307368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A0DE-C704-41A6-A8F9-95424602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78160" y="2684520"/>
            <a:ext cx="61084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059-8DDC-448B-8DEE-1BE9831D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08360" y="307368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8DA8-3B94-421E-A312-F70C1828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78160" y="3073680"/>
            <a:ext cx="61084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A72E-0D31-4E76-899C-5BFF26AD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61084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78160" y="3073680"/>
            <a:ext cx="61084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A20A-6788-4B82-B946-2BA6AC59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78160" y="307368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08360" y="307368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64B2-3512-4B49-B0ED-F8191680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43480" y="268452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8800" y="268452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78160" y="307368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43480" y="307368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8800" y="3073680"/>
            <a:ext cx="19666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63D4-0EBD-4619-B2F6-89C79BF0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610848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FF8-DBDB-4404-AB0E-4664C2E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090-C5E8-4E01-A5D7-2141F77A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BFF-4426-4A14-BCCD-C0095B67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928440"/>
            <a:ext cx="74167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342-C40B-4DC2-A2F0-EC215ABA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78160" y="307368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EEB-F7BC-4AFD-A548-D193FF01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08360" y="307368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0CFD-21A0-493B-B346-5B389A7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781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8360" y="2684520"/>
            <a:ext cx="298080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78160" y="3073680"/>
            <a:ext cx="6108480" cy="3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D39-5C19-440B-9C5C-8A333B7D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DA66-2B1A-4E0B-B5F2-DD2D844596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DF8-B680-4B97-8C55-691FDFFCA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dezine.com/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928440"/>
            <a:ext cx="741672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Memorial Day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Memorial 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 Day was originally called Decoration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celebrated in the US as a day of remembrance and honor for those who have died in the nation's serv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n is Memorial Day celebrat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ial Day is a United States federal holiday that is observed on the last Monday of M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fficial birthplace of Memorial Day is Waterloo, New Y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Decoration 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outh Eastern states in the US celebrate Decoration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ration Day predates Memorial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is day, family members decorate the graves of deceased fami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oration Day happens the Sunday before Memorial 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morial Day Triv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rm Memorial Day was first used in 188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me more common after World War 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 declared the official name by Federal law in 196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2360" y="126180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9240" y="4756320"/>
            <a:ext cx="61084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right Indezi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e35a"/>
                </a:solidFill>
                <a:uFillTx/>
                <a:latin typeface="Arial"/>
                <a:hlinkClick r:id="rId2"/>
              </a:rPr>
              <a:t>http://www.indezine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6:17:16Z</dcterms:created>
  <dc:creator>Geetesh Bajaj</dc:creator>
  <dc:description/>
  <dc:language>en-US</dc:language>
  <cp:lastModifiedBy>Geetesh Bajaj</cp:lastModifiedBy>
  <dcterms:modified xsi:type="dcterms:W3CDTF">2007-05-15T06:30:18Z</dcterms:modified>
  <cp:revision>4</cp:revision>
  <dc:subject/>
  <dc:title>Memorial Day</dc:title>
</cp:coreProperties>
</file>