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0.wmf" ContentType="image/x-wmf"/>
  <Override PartName="/ppt/media/image22.png" ContentType="image/png"/>
  <Override PartName="/ppt/media/image20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CD3-AA50-4E70-ACA9-4E782350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52760" y="419508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FF2-3FD3-4552-A813-9BF5A3A8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280" y="32792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52760" y="419508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280" y="419508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33B-D274-44E5-9B53-2C0081F9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4160" y="32792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560" y="32792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52760" y="419508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4160" y="419508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35560" y="419508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211-EAD8-4017-A06D-D8DCCA7D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92D0-5099-4049-9044-D93D5C2B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52760" y="327924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0893-2787-450F-95FA-C67753E6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DA0A-2961-42AE-9693-B1F73B79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2007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1280" y="3279240"/>
            <a:ext cx="2007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515C-77C6-4AB0-9404-5B0F8597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3E16-1E5F-4825-BB70-9949B8DC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09320" y="1523880"/>
            <a:ext cx="4800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56F5-AB11-44E1-A39D-7E5FB598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1280" y="3279240"/>
            <a:ext cx="2007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52760" y="419508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100D-66E2-4206-A758-4716DD1F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52760" y="327924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949-C24B-4789-842F-3D4CFE37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2007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1280" y="32792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280" y="419508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B0D2-6B69-40E1-A5D4-32A1EAC0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1280" y="32792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52760" y="419508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7794-1CBB-4C1A-8057-763ABC03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52760" y="419508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B2A5-98EE-4468-B639-4FA1FCEF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1280" y="32792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52760" y="419508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1280" y="419508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49CA-CFB1-4A8A-8F5A-E922B2E1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4160" y="32792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560" y="32792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52760" y="419508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4160" y="419508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35560" y="419508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CDF4-4A09-4A19-9674-106A80FA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827-CE85-4912-99FB-70891F2A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2007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280" y="3279240"/>
            <a:ext cx="2007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D1F-FC46-4152-9E78-9386F7C8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C60-65F2-43C1-A4FC-DD81F557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09320" y="1523880"/>
            <a:ext cx="4800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9E1-8184-4025-B83B-B9E4558B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3279240"/>
            <a:ext cx="2007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52760" y="419508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6F8-ABE6-4E38-841E-97F1343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2007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32792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280" y="419508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CB0-29C7-40EF-AA3B-8BD83FC8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52760" y="32792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32792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52760" y="419508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484-D082-4DEF-9097-F0882395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76390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9680" y="1600200"/>
            <a:ext cx="888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F02C-8CA0-42AD-A465-603FFDDB69B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15238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B216-F291-49E9-90C8-1BA246123C0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ndezine.com/" TargetMode="External"/><Relationship Id="rId3" Type="http://schemas.openxmlformats.org/officeDocument/2006/relationships/hyperlink" Target="http://www.indezine.com/bank/" TargetMode="External"/><Relationship Id="rId4" Type="http://schemas.openxmlformats.org/officeDocument/2006/relationships/hyperlink" Target="http://www.indezine.com/bank/" TargetMode="External"/><Relationship Id="rId5" Type="http://schemas.openxmlformats.org/officeDocument/2006/relationships/hyperlink" Target="http://www.indezine.com/bank/" TargetMode="External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523880" y="228600"/>
            <a:ext cx="6019560" cy="3733920"/>
            <a:chOff x="1523880" y="228600"/>
            <a:chExt cx="6019560" cy="3733920"/>
          </a:xfrm>
        </p:grpSpPr>
        <p:sp>
          <p:nvSpPr>
            <p:cNvPr id="84" name=""/>
            <p:cNvSpPr/>
            <p:nvPr/>
          </p:nvSpPr>
          <p:spPr>
            <a:xfrm>
              <a:off x="1523880" y="228600"/>
              <a:ext cx="6019560" cy="3733920"/>
            </a:xfrm>
            <a:prstGeom prst="rect">
              <a:avLst/>
            </a:prstGeom>
            <a:gradFill rotWithShape="0">
              <a:gsLst>
                <a:gs pos="0">
                  <a:srgbClr val="76390c">
                    <a:alpha val="50196"/>
                  </a:srgbClr>
                </a:gs>
                <a:gs pos="100000">
                  <a:srgbClr val="3112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800000">
              <a:off x="1734840" y="404280"/>
              <a:ext cx="5618160" cy="3394080"/>
            </a:xfrm>
            <a:prstGeom prst="rect">
              <a:avLst/>
            </a:prstGeom>
            <a:gradFill rotWithShape="0">
              <a:gsLst>
                <a:gs pos="0">
                  <a:srgbClr val="ff7866">
                    <a:alpha val="30196"/>
                  </a:srgbClr>
                </a:gs>
                <a:gs pos="100000">
                  <a:srgbClr val="c7611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720" y="1366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Holi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special drink called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thandai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is prepared..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668920" y="2514600"/>
            <a:ext cx="2722680" cy="38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People invite each other to their houses for feast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3733920" y="2819520"/>
            <a:ext cx="4952880" cy="3587760"/>
          </a:xfrm>
          <a:prstGeom prst="rect">
            <a:avLst/>
          </a:prstGeom>
          <a:gradFill rotWithShape="0">
            <a:gsLst>
              <a:gs pos="0">
                <a:srgbClr val="c76114">
                  <a:alpha val="50196"/>
                </a:srgbClr>
              </a:gs>
              <a:gs pos="100000">
                <a:srgbClr val="5b2c0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832360" y="2971800"/>
            <a:ext cx="271152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34120" y="5248440"/>
            <a:ext cx="1841400" cy="1076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809880" y="4419720"/>
            <a:ext cx="1841760" cy="1073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3809880" y="5365800"/>
            <a:ext cx="1841760" cy="95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It's a holiday in In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038480" y="291456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447920" y="685800"/>
            <a:ext cx="6400800" cy="3505320"/>
            <a:chOff x="1447920" y="685800"/>
            <a:chExt cx="6400800" cy="3505320"/>
          </a:xfrm>
        </p:grpSpPr>
        <p:sp>
          <p:nvSpPr>
            <p:cNvPr id="125" name=""/>
            <p:cNvSpPr/>
            <p:nvPr/>
          </p:nvSpPr>
          <p:spPr>
            <a:xfrm>
              <a:off x="1447920" y="685800"/>
              <a:ext cx="6400800" cy="3505320"/>
            </a:xfrm>
            <a:prstGeom prst="rect">
              <a:avLst/>
            </a:prstGeom>
            <a:gradFill rotWithShape="0">
              <a:gsLst>
                <a:gs pos="0">
                  <a:srgbClr val="76390c">
                    <a:alpha val="50196"/>
                  </a:srgbClr>
                </a:gs>
                <a:gs pos="100000">
                  <a:srgbClr val="3112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1671480" y="849960"/>
              <a:ext cx="5973840" cy="3186360"/>
            </a:xfrm>
            <a:prstGeom prst="rect">
              <a:avLst/>
            </a:prstGeom>
            <a:gradFill rotWithShape="0">
              <a:gsLst>
                <a:gs pos="0">
                  <a:srgbClr val="ff7866">
                    <a:alpha val="30196"/>
                  </a:srgbClr>
                </a:gs>
                <a:gs pos="100000">
                  <a:srgbClr val="c7611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320" y="91404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23623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right Indezin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5d6"/>
                </a:solidFill>
                <a:uFillTx/>
                <a:latin typeface="Arial"/>
                <a:hlinkClick r:id="rId2"/>
              </a:rPr>
              <a:t>http://www.indezin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presentations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5d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fff5d6"/>
                </a:solidFill>
                <a:uFillTx/>
                <a:latin typeface="Arial"/>
                <a:hlinkClick r:id="rId4"/>
              </a:rPr>
              <a:t>www.indezine.com</a:t>
            </a:r>
            <a:r>
              <a:rPr b="0" lang="en-US" sz="1800" spc="-1" strike="noStrike" u="sng">
                <a:solidFill>
                  <a:srgbClr val="fff5d6"/>
                </a:solidFill>
                <a:uFillTx/>
                <a:latin typeface="Arial"/>
                <a:hlinkClick r:id="rId5"/>
              </a:rPr>
              <a:t>/bank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i is a Hindu spring festival celebrated all over India -- and in other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53080" y="4267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0" y="203832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 rot="662400">
            <a:off x="6970320" y="213372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71800" y="41911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800600" y="4876920"/>
            <a:ext cx="2097000" cy="209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i is also called the Festival of Col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5348160" y="1599840"/>
            <a:ext cx="3338640" cy="4807080"/>
          </a:xfrm>
          <a:prstGeom prst="rect">
            <a:avLst/>
          </a:prstGeom>
          <a:gradFill rotWithShape="0">
            <a:gsLst>
              <a:gs pos="0">
                <a:srgbClr val="c76114">
                  <a:alpha val="50196"/>
                </a:srgbClr>
              </a:gs>
              <a:gs pos="100000">
                <a:srgbClr val="5b2c0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518080" y="1755720"/>
            <a:ext cx="299880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stivities start in the night, when bonfires are li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4572000" y="2895120"/>
            <a:ext cx="4114800" cy="3511800"/>
          </a:xfrm>
          <a:prstGeom prst="rect">
            <a:avLst/>
          </a:prstGeom>
          <a:gradFill rotWithShape="0">
            <a:gsLst>
              <a:gs pos="0">
                <a:srgbClr val="c76114">
                  <a:alpha val="50196"/>
                </a:srgbClr>
              </a:gs>
              <a:gs pos="100000">
                <a:srgbClr val="5b2c0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45160" y="3090960"/>
            <a:ext cx="3768480" cy="312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to signify the burning of the demoness Hol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4419360" y="2895120"/>
            <a:ext cx="4267080" cy="3511800"/>
          </a:xfrm>
          <a:prstGeom prst="rect">
            <a:avLst/>
          </a:prstGeom>
          <a:gradFill rotWithShape="0">
            <a:gsLst>
              <a:gs pos="0">
                <a:srgbClr val="c76114">
                  <a:alpha val="50196"/>
                </a:srgbClr>
              </a:gs>
              <a:gs pos="100000">
                <a:srgbClr val="5b2c0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87840" y="3119400"/>
            <a:ext cx="3929040" cy="306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morning, people revel by throwing colored powder and water on each othe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641760" y="1963800"/>
            <a:ext cx="5045040" cy="443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..following the tradition set by the Hindu god Krishna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4952880" y="1599840"/>
            <a:ext cx="3733920" cy="4807080"/>
          </a:xfrm>
          <a:prstGeom prst="rect">
            <a:avLst/>
          </a:prstGeom>
          <a:gradFill rotWithShape="0">
            <a:gsLst>
              <a:gs pos="0">
                <a:srgbClr val="c76114">
                  <a:alpha val="50196"/>
                </a:srgbClr>
              </a:gs>
              <a:gs pos="100000">
                <a:srgbClr val="5b2c0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22800" y="1755720"/>
            <a:ext cx="339408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.. traditional colors are made from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nee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kumkum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vermilion),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haldi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turmeric),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bil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and other natural substa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14600" y="3043080"/>
            <a:ext cx="6019920" cy="32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 colors are squeezed onto others with a special tube-like device called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ichhka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605480" y="2133720"/>
            <a:ext cx="4080600" cy="4266360"/>
            <a:chOff x="4605480" y="2133720"/>
            <a:chExt cx="4080600" cy="426636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4605480" y="4174200"/>
              <a:ext cx="2225880" cy="22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5532480" y="3154320"/>
              <a:ext cx="2225880" cy="22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6460200" y="2133720"/>
              <a:ext cx="2225880" cy="2225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09:24:21Z</dcterms:created>
  <dc:creator>Topaz</dc:creator>
  <dc:description/>
  <dc:language>en-US</dc:language>
  <cp:lastModifiedBy>Topaz</cp:lastModifiedBy>
  <dcterms:modified xsi:type="dcterms:W3CDTF">2008-03-11T08:17:23Z</dcterms:modified>
  <cp:revision>46</cp:revision>
  <dc:subject/>
  <dc:title>Holi</dc:title>
</cp:coreProperties>
</file>