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C25-6123-44FF-B64B-955EBA1F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9BD-6245-4F50-BAAE-10C9BCA4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BF1-4D3A-4433-8F85-55A64DF7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DEA-F6DF-42A6-8063-B9B5CDFD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221B-B862-4199-83C0-8A1EAB38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0566-B6FA-42B3-AB21-21382D95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AD78-1D0B-4813-B9ED-6C47751B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E016-29E1-4B71-8DC7-F72FB63C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6322-6FB8-4908-8BE8-182999A2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6FC4-9838-447A-96B8-27AD31AF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B524-FC22-49F2-9E6C-B1C1AFB7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924-942B-4719-A064-F2A0F525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D20F-F2D4-4EA0-B3DA-E3FB1AA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0987-9DF2-4366-8898-C5C3934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0B7F-9A7C-460C-8ED6-4B627639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B7B4-CAB7-4C78-826F-94F035FA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B6D4-380A-419D-9650-7A4649A8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DFD-08F3-436B-8A81-9CDD9ABE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575-83AC-454A-805C-0186213A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EA2-3968-4DEE-9A76-06AE7E7E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BEC-9A88-4309-954E-AF6CA240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AAD-753D-4AD1-9700-C5B760F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B01-12C0-4A51-AA75-883703EE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23A-09D0-4291-982B-5E8A294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E397-35E3-40F2-AFFC-45578164164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B3B5-1EF6-46E7-903C-0326E4AABF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dezine.com/" TargetMode="External"/><Relationship Id="rId3" Type="http://schemas.openxmlformats.org/officeDocument/2006/relationships/hyperlink" Target="http://www.indezine.com/bank/" TargetMode="External"/><Relationship Id="rId4" Type="http://schemas.openxmlformats.org/officeDocument/2006/relationships/hyperlink" Target="http://www.indezine.com/bank/" TargetMode="External"/><Relationship Id="rId5" Type="http://schemas.openxmlformats.org/officeDocument/2006/relationships/hyperlink" Target="http://www.indezine.com/bank/" TargetMode="Externa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131840" y="457200"/>
            <a:ext cx="6856560" cy="3648240"/>
            <a:chOff x="1131840" y="457200"/>
            <a:chExt cx="6856560" cy="3648240"/>
          </a:xfrm>
        </p:grpSpPr>
        <p:sp>
          <p:nvSpPr>
            <p:cNvPr id="84" name=""/>
            <p:cNvSpPr/>
            <p:nvPr/>
          </p:nvSpPr>
          <p:spPr>
            <a:xfrm>
              <a:off x="1131840" y="457200"/>
              <a:ext cx="6856560" cy="3648240"/>
            </a:xfrm>
            <a:prstGeom prst="rect">
              <a:avLst/>
            </a:prstGeom>
            <a:gradFill rotWithShape="0">
              <a:gsLst>
                <a:gs pos="0">
                  <a:srgbClr val="042a7e">
                    <a:alpha val="50196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1371600" y="628200"/>
              <a:ext cx="6399360" cy="3316320"/>
            </a:xfrm>
            <a:prstGeom prst="rect">
              <a:avLst/>
            </a:prstGeom>
            <a:gradFill rotWithShape="0">
              <a:gsLst>
                <a:gs pos="0">
                  <a:srgbClr val="042a7e">
                    <a:alpha val="30196"/>
                  </a:srgbClr>
                </a:gs>
                <a:gs pos="100000">
                  <a:srgbClr val="0534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577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Easter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ster is celebrated all over the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962520" y="3276000"/>
            <a:ext cx="4876560" cy="335268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31840" y="304920"/>
            <a:ext cx="6856560" cy="3886200"/>
          </a:xfrm>
          <a:prstGeom prst="rect">
            <a:avLst/>
          </a:prstGeom>
          <a:gradFill rotWithShape="0">
            <a:gsLst>
              <a:gs pos="0">
                <a:srgbClr val="042a7e">
                  <a:alpha val="50196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1371600" y="487080"/>
            <a:ext cx="6399360" cy="3533760"/>
          </a:xfrm>
          <a:prstGeom prst="rect">
            <a:avLst/>
          </a:prstGeom>
          <a:gradFill rotWithShape="0">
            <a:gsLst>
              <a:gs pos="0">
                <a:srgbClr val="042a7e">
                  <a:alpha val="30196"/>
                </a:srgbClr>
              </a:gs>
              <a:gs pos="100000">
                <a:srgbClr val="0534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828440" y="205740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Indezi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5dcf7"/>
                </a:solidFill>
                <a:uFillTx/>
                <a:latin typeface="Arial"/>
                <a:hlinkClick r:id="rId2"/>
              </a:rPr>
              <a:t>http://www.indezi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presentations 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5dcf7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c5dcf7"/>
                </a:solidFill>
                <a:uFillTx/>
                <a:latin typeface="Arial"/>
                <a:hlinkClick r:id="rId4"/>
              </a:rPr>
              <a:t>www.indezine.com</a:t>
            </a:r>
            <a:r>
              <a:rPr b="0" lang="en-US" sz="2400" spc="-1" strike="noStrike" u="sng">
                <a:solidFill>
                  <a:srgbClr val="c5dcf7"/>
                </a:solidFill>
                <a:uFillTx/>
                <a:latin typeface="Arial"/>
                <a:hlinkClick r:id="rId5"/>
              </a:rPr>
              <a:t>/bank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 occurs on the first Sunday after either the first full moon or after March 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962520" y="2728080"/>
            <a:ext cx="4876560" cy="390060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057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62520" y="274320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410080" y="1371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s the death and resurrection of Jes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3962520" y="3276000"/>
            <a:ext cx="4876560" cy="335268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114800" y="3460680"/>
            <a:ext cx="4572000" cy="301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milies traditionally attend church in the morning,..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962520" y="3429000"/>
            <a:ext cx="4876560" cy="320040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14800" y="3529080"/>
            <a:ext cx="4572000" cy="292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then indulge in festive family meal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962520" y="2666160"/>
            <a:ext cx="4876560" cy="396252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14800" y="2820960"/>
            <a:ext cx="4572000" cy="36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ypical Easter activities include Easter egg hunts,..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352680" y="2728080"/>
            <a:ext cx="5486400" cy="390060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00720" y="2895480"/>
            <a:ext cx="2381400" cy="3581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46640" y="2895480"/>
            <a:ext cx="277308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257800" y="1523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..Egg painting,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876920" y="2666160"/>
            <a:ext cx="3962160" cy="396252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..and gifts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962520" y="3199680"/>
            <a:ext cx="4876560" cy="342900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962520" y="3328920"/>
            <a:ext cx="4876560" cy="330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H="1" flipV="1">
            <a:off x="2971800" y="2728080"/>
            <a:ext cx="5867280" cy="3900600"/>
          </a:xfrm>
          <a:prstGeom prst="rect">
            <a:avLst/>
          </a:prstGeom>
          <a:gradFill rotWithShape="0">
            <a:gsLst>
              <a:gs pos="0">
                <a:srgbClr val="05349d">
                  <a:alpha val="24313"/>
                </a:srgbClr>
              </a:gs>
              <a:gs pos="100000">
                <a:srgbClr val="042a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ff course, there are sales in the malls..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4212" t="0" r="10643" b="0"/>
          <a:stretch/>
        </p:blipFill>
        <p:spPr>
          <a:xfrm>
            <a:off x="3124080" y="2819520"/>
            <a:ext cx="2438640" cy="3657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9763" t="0" r="10169" b="0"/>
          <a:stretch/>
        </p:blipFill>
        <p:spPr>
          <a:xfrm>
            <a:off x="5715000" y="3886200"/>
            <a:ext cx="3048120" cy="2600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5715000" y="2819160"/>
            <a:ext cx="3048120" cy="3657600"/>
          </a:xfrm>
          <a:prstGeom prst="rect">
            <a:avLst/>
          </a:prstGeom>
          <a:gradFill rotWithShape="0">
            <a:gsLst>
              <a:gs pos="0">
                <a:srgbClr val="0747d7">
                  <a:alpha val="24313"/>
                </a:srgbClr>
              </a:gs>
              <a:gs pos="100000">
                <a:srgbClr val="0534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483160" y="2833560"/>
            <a:ext cx="3279960" cy="2244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181480" y="14479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6:21:03Z</dcterms:created>
  <dc:creator>Topaz</dc:creator>
  <dc:description/>
  <dc:language>en-US</dc:language>
  <cp:lastModifiedBy>Topaz</cp:lastModifiedBy>
  <dcterms:modified xsi:type="dcterms:W3CDTF">2008-03-01T07:07:53Z</dcterms:modified>
  <cp:revision>34</cp:revision>
  <dc:subject/>
  <dc:title>Easter</dc:title>
</cp:coreProperties>
</file>