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018-B69C-4EC1-8710-6C02315B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5338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0D2-A163-4218-9211-EE7EAC3A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272-167F-416B-8924-44702B93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7E4-2040-48A1-923A-CF05D95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7A1-D39D-4552-A6C7-C6DEC59D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22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12FF-8936-4DF2-BCC6-EBE715E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0274-DE8A-4236-ADCA-AE5AF7F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CD28-425B-46F7-AB94-3490A5E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1F8-A6AB-4F86-A80D-8B6F0BC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1E3-BD35-493A-8EBA-AC3BFA5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0FF-2E7A-41AA-BDD0-F42C4C0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22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058-9698-4410-BF4F-1AEE47D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C241-F370-46A4-BD00-8471DBE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39AF-18B7-4E54-8376-2DB1D45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5338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5A2-E651-4CB2-87AB-D0E21098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E32-999E-4BDA-A743-E850D0A5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4222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5338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D2E-E13B-4869-A01A-0B9CE480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53F-8B32-4557-A8FD-CB692A28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B89-F488-43AD-A053-4778F44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7C3-CC23-4693-B337-902B6BBD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04F-B3C2-45D4-9CDD-0289919D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4B1-48A7-4B51-921D-0925E61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5338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896-46A8-44A9-9B21-26CAE9D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222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5338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246-DC3F-4CFE-B29E-7F16C9F2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E2D-0B95-4E13-BB4B-8A465747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2A4-F3A0-4E5A-9695-02238ED5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rthday.gov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hyperlink" Target="http://www.indezine.com/" TargetMode="External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9144000" cy="1469880"/>
          </a:xfrm>
          <a:prstGeom prst="rect">
            <a:avLst/>
          </a:prstGeom>
          <a:solidFill>
            <a:srgbClr val="eead0e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Earth D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arth 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Day is a name of a global, commemorative day each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rks the advent of spring in the Northern hemisphere and autumn in the Southern hemi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oth intended to inspire awareness of and appreciation for the Earth'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Two Earth Da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-- there are two Earth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McConnell, a peace activist is credited as being the founder of Earth Day. He visualized the idea of a worldwide holiday called Earth Day during a UNESCO Conference on the Environment in the year 1969. This is hel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20th or 21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Earth Day, held first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22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70, and every year thereafter is more popular -- it is the largest secular holiday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Earth Day Fla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Day flag is an unofficial representation -- but it is widely popular. It shows a NASA image of the earth over a blue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40384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do on Earth 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Day is a time to celebrate gains we have made and create new visions to accelerate environmental progress. Earth Day is a time to unite around new actions. Earth Day and every day is a time to act to protect 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US Government Site</a:t>
            </a:r>
            <a:br>
              <a:rPr sz="2800"/>
            </a:br>
            <a:r>
              <a:rPr b="0" lang="en-US" sz="2800" spc="-1" strike="noStrike" u="sng">
                <a:solidFill>
                  <a:srgbClr val="4c3400"/>
                </a:solidFill>
                <a:uFillTx/>
                <a:latin typeface="Arial"/>
                <a:hlinkClick r:id="rId2"/>
              </a:rPr>
              <a:t>http://www.earthday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eead0e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Indezin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c3400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3200" spc="-1" strike="noStrike" u="sng">
                <a:solidFill>
                  <a:srgbClr val="4c3400"/>
                </a:solidFill>
                <a:uFillTx/>
                <a:latin typeface="Arial"/>
                <a:hlinkClick r:id="rId3"/>
              </a:rPr>
              <a:t>://www.indezin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4:13:09Z</dcterms:created>
  <dc:creator>Geetesh Bajaj</dc:creator>
  <dc:description/>
  <dc:language>en-US</dc:language>
  <cp:lastModifiedBy>Geetesh Bajaj</cp:lastModifiedBy>
  <dcterms:modified xsi:type="dcterms:W3CDTF">2007-04-18T05:18:51Z</dcterms:modified>
  <cp:revision>5</cp:revision>
  <dc:subject/>
  <dc:title>Earth Day</dc:title>
</cp:coreProperties>
</file>