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9.jpeg" ContentType="image/jpeg"/>
  <Override PartName="/ppt/media/image13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12.jpeg" ContentType="image/jpeg"/>
  <Override PartName="/ppt/media/image6.wmf" ContentType="image/x-wmf"/>
  <Override PartName="/ppt/media/image19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237A-4993-4432-B6B6-7F1FD7FEB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0932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55276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55276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A145-9C7C-43EA-B5DD-CAF9319A0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0932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5276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128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55276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128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55AC-EF0D-4276-9BAF-89406A241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0932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55276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416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3556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55276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416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3556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6760-0005-4EEA-9DCA-1E2A0B5FC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154A9-70AC-47EE-A9F7-DEEFE38FF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0932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55276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FBA6C-E4BE-4F24-9236-D072A7852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0932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5276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3E965-3C25-4097-9AB9-FD4AD6763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0932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5276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128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E34D0-AA00-426F-87C6-C209CCAD1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0932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5C46A-D028-42E3-A257-680A4E6D0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0932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49E59-A629-46E6-A544-9E2BD8980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0932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5276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128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5276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1CD56-65E8-4E69-A303-9EC43F84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0932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55276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9DC9-E093-4BBC-9C5F-2D7DFCD5E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0932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5276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128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128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94583-40C9-4A7E-AE11-1C6C5EDA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0932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5276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128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55276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5F53F-4C18-4B30-9CE6-67366886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0932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52760" y="388620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55276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F937E-87D6-4D20-A9A5-2819024F7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0932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5276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128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55276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128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0F219-4033-4C2A-B1FE-90D8DE6ED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0932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5276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416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560" y="388620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55276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416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335560" y="4802040"/>
            <a:ext cx="132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6487D-4126-436D-88A4-13246DCFC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0932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55276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3A60-FCF8-43A0-8DBA-7728BBF46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0932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55276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128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A50E-CBD1-4C8C-A3B4-F1966FF56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0932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9B8A-7BF0-47B4-A55E-E6877B28A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09320" y="2130120"/>
            <a:ext cx="48006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903E-4F95-44D9-8F5D-126C018AD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0932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5276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128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55276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0A84-EF86-4416-AA95-3C0AD700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0932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552760" y="3886200"/>
            <a:ext cx="2007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128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1280" y="480204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4117-EE82-4436-A999-EC014B2E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0932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55276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1280" y="3886200"/>
            <a:ext cx="2007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552760" y="4802040"/>
            <a:ext cx="411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4F72-A7FF-4FF3-AAC7-80412E90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ffcc">
                  <a:alpha val="10196"/>
                </a:srgbClr>
              </a:gs>
              <a:gs pos="100000">
                <a:srgbClr val="ffe265">
                  <a:alpha val="7529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3720" y="274320"/>
            <a:ext cx="883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B2CE0-747B-46A7-B68C-5A64B183D6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09320" y="213012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BAC8F-639E-4A86-972D-A925A7E9F8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indezine.com/" TargetMode="External"/><Relationship Id="rId3" Type="http://schemas.openxmlformats.org/officeDocument/2006/relationships/hyperlink" Target="http://www.indezine.com/" TargetMode="External"/><Relationship Id="rId4" Type="http://schemas.openxmlformats.org/officeDocument/2006/relationships/hyperlink" Target="http://www.indezine.com/bank/" TargetMode="External"/><Relationship Id="rId5" Type="http://schemas.openxmlformats.org/officeDocument/2006/relationships/hyperlink" Target="http://www.indezine.com/bank/" TargetMode="External"/><Relationship Id="rId6" Type="http://schemas.openxmlformats.org/officeDocument/2006/relationships/hyperlink" Target="http://www.indezine.com/bank/" TargetMode="External"/><Relationship Id="rId7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2895480" y="304920"/>
            <a:ext cx="6019920" cy="6324120"/>
            <a:chOff x="2895480" y="304920"/>
            <a:chExt cx="6019920" cy="6324120"/>
          </a:xfrm>
        </p:grpSpPr>
        <p:sp>
          <p:nvSpPr>
            <p:cNvPr id="84" name=""/>
            <p:cNvSpPr/>
            <p:nvPr/>
          </p:nvSpPr>
          <p:spPr>
            <a:xfrm>
              <a:off x="2895480" y="304920"/>
              <a:ext cx="6019920" cy="6324120"/>
            </a:xfrm>
            <a:prstGeom prst="rect">
              <a:avLst/>
            </a:prstGeom>
            <a:gradFill rotWithShape="0">
              <a:gsLst>
                <a:gs pos="0">
                  <a:srgbClr val="ffffcc">
                    <a:alpha val="50196"/>
                  </a:srgbClr>
                </a:gs>
                <a:gs pos="100000">
                  <a:srgbClr val="ffe2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0800000">
              <a:off x="3106800" y="602640"/>
              <a:ext cx="5618160" cy="57484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ffe2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76360" y="609120"/>
            <a:ext cx="5181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April Fools’ Day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81240" y="5410080"/>
            <a:ext cx="5639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- An 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2895480" y="304920"/>
            <a:ext cx="6019920" cy="6324120"/>
            <a:chOff x="2895480" y="304920"/>
            <a:chExt cx="6019920" cy="6324120"/>
          </a:xfrm>
        </p:grpSpPr>
        <p:sp>
          <p:nvSpPr>
            <p:cNvPr id="121" name=""/>
            <p:cNvSpPr/>
            <p:nvPr/>
          </p:nvSpPr>
          <p:spPr>
            <a:xfrm>
              <a:off x="2895480" y="304920"/>
              <a:ext cx="6019920" cy="6324120"/>
            </a:xfrm>
            <a:prstGeom prst="rect">
              <a:avLst/>
            </a:prstGeom>
            <a:gradFill rotWithShape="0">
              <a:gsLst>
                <a:gs pos="0">
                  <a:srgbClr val="ffffcc">
                    <a:alpha val="50196"/>
                  </a:srgbClr>
                </a:gs>
                <a:gs pos="100000">
                  <a:srgbClr val="ffe2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0800000">
              <a:off x="3106800" y="602640"/>
              <a:ext cx="5618160" cy="57484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ffe2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76360" y="609120"/>
            <a:ext cx="5181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is the day upon which we are reminded of what we are on the other three-hundred and sixty-fou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81240" y="5410080"/>
            <a:ext cx="5639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- Mark Tw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2895480" y="304920"/>
            <a:ext cx="6019920" cy="6324120"/>
            <a:chOff x="2895480" y="304920"/>
            <a:chExt cx="6019920" cy="6324120"/>
          </a:xfrm>
        </p:grpSpPr>
        <p:sp>
          <p:nvSpPr>
            <p:cNvPr id="126" name=""/>
            <p:cNvSpPr/>
            <p:nvPr/>
          </p:nvSpPr>
          <p:spPr>
            <a:xfrm>
              <a:off x="2895480" y="304920"/>
              <a:ext cx="6019920" cy="6324120"/>
            </a:xfrm>
            <a:prstGeom prst="rect">
              <a:avLst/>
            </a:prstGeom>
            <a:gradFill rotWithShape="0">
              <a:gsLst>
                <a:gs pos="0">
                  <a:srgbClr val="ffffcc">
                    <a:alpha val="50196"/>
                  </a:srgbClr>
                </a:gs>
                <a:gs pos="100000">
                  <a:srgbClr val="ffe2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10800000">
              <a:off x="3106800" y="602640"/>
              <a:ext cx="5618160" cy="57484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ffe2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76360" y="609480"/>
            <a:ext cx="51814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ank Yo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81240" y="3962520"/>
            <a:ext cx="563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pyright Indezin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de5300"/>
                </a:solidFill>
                <a:uFillTx/>
                <a:latin typeface="Arial"/>
                <a:ea typeface="Arial"/>
                <a:hlinkClick r:id="rId2"/>
              </a:rPr>
              <a:t>http://</a:t>
            </a:r>
            <a:r>
              <a:rPr b="0" lang="en-US" sz="1800" spc="-1" strike="noStrike" u="sng">
                <a:solidFill>
                  <a:srgbClr val="de5300"/>
                </a:solidFill>
                <a:uFillTx/>
                <a:latin typeface="Arial"/>
                <a:ea typeface="Arial"/>
                <a:hlinkClick r:id="rId3"/>
              </a:rPr>
              <a:t>www.indezin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re presentations 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de5300"/>
                </a:solidFill>
                <a:uFillTx/>
                <a:latin typeface="Arial"/>
                <a:ea typeface="Arial"/>
                <a:hlinkClick r:id="rId4"/>
              </a:rPr>
              <a:t>http://</a:t>
            </a:r>
            <a:r>
              <a:rPr b="0" lang="en-US" sz="1800" spc="-1" strike="noStrike" u="sng">
                <a:solidFill>
                  <a:srgbClr val="de5300"/>
                </a:solidFill>
                <a:uFillTx/>
                <a:latin typeface="Arial"/>
                <a:ea typeface="Arial"/>
                <a:hlinkClick r:id="rId5"/>
              </a:rPr>
              <a:t>www.indezine.com</a:t>
            </a:r>
            <a:r>
              <a:rPr b="0" lang="en-US" sz="1800" spc="-1" strike="noStrike" u="sng">
                <a:solidFill>
                  <a:srgbClr val="de5300"/>
                </a:solidFill>
                <a:uFillTx/>
                <a:latin typeface="Arial"/>
                <a:ea typeface="Arial"/>
                <a:hlinkClick r:id="rId6"/>
              </a:rPr>
              <a:t>/bank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3720" y="274320"/>
            <a:ext cx="883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ril Fools’ Day is a fun day that’s celebrated on April 1st every ye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3200400" y="1891800"/>
            <a:ext cx="5486400" cy="4515120"/>
          </a:xfrm>
          <a:prstGeom prst="rect">
            <a:avLst/>
          </a:prstGeom>
          <a:gradFill rotWithShape="0">
            <a:gsLst>
              <a:gs pos="0">
                <a:srgbClr val="ffffc6">
                  <a:alpha val="50196"/>
                </a:srgbClr>
              </a:gs>
              <a:gs pos="100000">
                <a:srgbClr val="ffe2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267080" y="1981080"/>
            <a:ext cx="4410360" cy="4419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 rot="850200">
            <a:off x="6858000" y="4572000"/>
            <a:ext cx="1508040" cy="1293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3720" y="274320"/>
            <a:ext cx="883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ril Fools' Day, also known as All Fools' Day is certainly not a holiday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 rot="20166000">
            <a:off x="3670200" y="2453760"/>
            <a:ext cx="1803600" cy="19497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334120" y="4648320"/>
            <a:ext cx="1866960" cy="17780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 rot="931200">
            <a:off x="6095880" y="1904760"/>
            <a:ext cx="2486160" cy="2157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 rot="10800000">
            <a:off x="3200400" y="1891800"/>
            <a:ext cx="5486400" cy="4515120"/>
          </a:xfrm>
          <a:prstGeom prst="rect">
            <a:avLst/>
          </a:prstGeom>
          <a:gradFill rotWithShape="0">
            <a:gsLst>
              <a:gs pos="0">
                <a:srgbClr val="ffffc6">
                  <a:alpha val="50196"/>
                </a:srgbClr>
              </a:gs>
              <a:gs pos="100000">
                <a:srgbClr val="ffe2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3720" y="274320"/>
            <a:ext cx="883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origins of April Fools’ Day are obsc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4281480" cy="4281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3720" y="274320"/>
            <a:ext cx="883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day is marked by pranks, hoaxes, and other practical jokes on friends,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0800000">
            <a:off x="4876560" y="1892160"/>
            <a:ext cx="3809880" cy="4515120"/>
          </a:xfrm>
          <a:prstGeom prst="rect">
            <a:avLst/>
          </a:prstGeom>
          <a:gradFill rotWithShape="0">
            <a:gsLst>
              <a:gs pos="0">
                <a:srgbClr val="ffffc6">
                  <a:alpha val="50196"/>
                </a:srgbClr>
              </a:gs>
              <a:gs pos="100000">
                <a:srgbClr val="ffe2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029200" y="2057400"/>
            <a:ext cx="3489480" cy="25606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rcRect l="0" t="0" r="0" b="55247"/>
          <a:stretch/>
        </p:blipFill>
        <p:spPr>
          <a:xfrm>
            <a:off x="5029200" y="4724280"/>
            <a:ext cx="3489480" cy="1565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 flipH="1" rot="772200">
            <a:off x="3047400" y="2057400"/>
            <a:ext cx="1778040" cy="2741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3720" y="274320"/>
            <a:ext cx="883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..enemies, neighbors, colleagues, classmates, and fami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0800000">
            <a:off x="3657600" y="1980720"/>
            <a:ext cx="5029200" cy="4426200"/>
          </a:xfrm>
          <a:prstGeom prst="rect">
            <a:avLst/>
          </a:prstGeom>
          <a:gradFill rotWithShape="0">
            <a:gsLst>
              <a:gs pos="0">
                <a:srgbClr val="ffffc6">
                  <a:alpha val="50196"/>
                </a:srgbClr>
              </a:gs>
              <a:gs pos="100000">
                <a:srgbClr val="ffe2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rcRect l="0" t="0" r="10231" b="0"/>
          <a:stretch/>
        </p:blipFill>
        <p:spPr>
          <a:xfrm>
            <a:off x="6103800" y="2125800"/>
            <a:ext cx="2506680" cy="4198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rcRect l="0" t="0" r="0" b="9633"/>
          <a:stretch/>
        </p:blipFill>
        <p:spPr>
          <a:xfrm>
            <a:off x="3797280" y="2125800"/>
            <a:ext cx="2208240" cy="19954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rcRect l="26679" t="-3329" r="8847" b="13393"/>
          <a:stretch/>
        </p:blipFill>
        <p:spPr>
          <a:xfrm>
            <a:off x="3797280" y="4267080"/>
            <a:ext cx="2209680" cy="20574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>
            <a:lum bright="18000"/>
          </a:blip>
          <a:stretch/>
        </p:blipFill>
        <p:spPr>
          <a:xfrm rot="20035200">
            <a:off x="1925280" y="1996560"/>
            <a:ext cx="1739880" cy="1046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3720" y="274320"/>
            <a:ext cx="883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aim is to embarrass the gullible -- by sending them on fools' errands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3200400" y="1891800"/>
            <a:ext cx="5486400" cy="4515120"/>
          </a:xfrm>
          <a:prstGeom prst="rect">
            <a:avLst/>
          </a:prstGeom>
          <a:gradFill rotWithShape="0">
            <a:gsLst>
              <a:gs pos="0">
                <a:srgbClr val="ffffc6">
                  <a:alpha val="50196"/>
                </a:srgbClr>
              </a:gs>
              <a:gs pos="100000">
                <a:srgbClr val="ffe2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599080" y="1981080"/>
            <a:ext cx="3011400" cy="43434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 flipH="1" rot="21035400">
            <a:off x="2742480" y="1981080"/>
            <a:ext cx="2560680" cy="3275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3720" y="274320"/>
            <a:ext cx="883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r by playing mischief, or causing embarrassment to the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2590560" y="2819160"/>
            <a:ext cx="6095880" cy="3587760"/>
          </a:xfrm>
          <a:prstGeom prst="rect">
            <a:avLst/>
          </a:prstGeom>
          <a:gradFill rotWithShape="0">
            <a:gsLst>
              <a:gs pos="0">
                <a:srgbClr val="ffffc6">
                  <a:alpha val="50196"/>
                </a:srgbClr>
              </a:gs>
              <a:gs pos="100000">
                <a:srgbClr val="ffe2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rcRect l="0" t="0" r="0" b="27041"/>
          <a:stretch/>
        </p:blipFill>
        <p:spPr>
          <a:xfrm>
            <a:off x="2743200" y="3048120"/>
            <a:ext cx="5772240" cy="3200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3720" y="274320"/>
            <a:ext cx="883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is done in the spirit of fun, and nobody minds as long as it is April 1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4038480" y="1892160"/>
            <a:ext cx="4648320" cy="4515120"/>
          </a:xfrm>
          <a:prstGeom prst="rect">
            <a:avLst/>
          </a:prstGeom>
          <a:gradFill rotWithShape="0">
            <a:gsLst>
              <a:gs pos="0">
                <a:srgbClr val="ffffc6">
                  <a:alpha val="50196"/>
                </a:srgbClr>
              </a:gs>
              <a:gs pos="100000">
                <a:srgbClr val="ffe2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rcRect l="0" t="0" r="0" b="36109"/>
          <a:stretch/>
        </p:blipFill>
        <p:spPr>
          <a:xfrm>
            <a:off x="4191120" y="2057400"/>
            <a:ext cx="4324320" cy="4191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5T07:59:31Z</dcterms:created>
  <dc:creator>Topaz</dc:creator>
  <dc:description/>
  <dc:language>en-US</dc:language>
  <cp:lastModifiedBy>Topaz</cp:lastModifiedBy>
  <dcterms:modified xsi:type="dcterms:W3CDTF">2008-06-11T11:32:37Z</dcterms:modified>
  <cp:revision>26</cp:revision>
  <dc:subject/>
  <dc:title>April Fools Day</dc:title>
</cp:coreProperties>
</file>